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5F2-38E0-444E-8696-71E485C4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876-03F7-4D49-B9DE-B077403C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F7C-6147-4C9D-A2E4-77FEA502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F80-27B5-4957-8025-90D3F2F2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15E-7551-4361-BD77-39B0BAC0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D10-82BA-45B6-BC27-A553EB13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E01-F55F-4AEC-9F46-10F2704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BAD-DDB9-4DC5-A8AB-22D2A49D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145-D459-4234-8F70-F9F7D989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D8A-CCC5-40DA-AB9E-ED6FE3FC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7FB-28E1-46D5-85AA-19C9860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884-A74E-4199-9F15-41B8D28E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0B26-186B-4D72-9C50-D953972F0849}" type="slidenum"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91404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PARP 2009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476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ES &amp; PV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ing Road Tri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Parents A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Reading Partners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22860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.A.R.P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is a statewide program designed to foster the love of reading in children by asking parents to set aside 15 minutes daily to read with their children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PARP Kick Of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Scavenger Hun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90560" y="2590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ES - January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MS - January 2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amily Read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ES - Mouse and the Motorcyc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MS - The Westing Ga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vie Night - March 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Many Ways to Participat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22860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ekly Participation Shee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ress Up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ing Budd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ok Sw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ok Dri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Home Scavenger Hu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ndparents’ Te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Many Rewards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a love of rea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ekly Raff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zes for particip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Pod raff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ke raff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22:51:34Z</dcterms:created>
  <dc:creator>Michael Lee</dc:creator>
  <dc:description/>
  <dc:language>en-US</dc:language>
  <cp:lastModifiedBy>Michael Lee</cp:lastModifiedBy>
  <dcterms:modified xsi:type="dcterms:W3CDTF">2009-06-16T20:32:20Z</dcterms:modified>
  <cp:revision>2</cp:revision>
  <dc:subject/>
  <dc:title>PARP 2009</dc:title>
</cp:coreProperties>
</file>